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082-5D79-47E7-8270-3B5EAC06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843E-4693-4D98-ACB5-D5EE5746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B41-1574-43E5-A2A6-FFE55D5D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5BA-1A8C-4D53-B0B1-2586EDDB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E13C-2397-4186-B3CD-3071A8DE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FAB1-8718-4033-AD2E-C87A3942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F641-7DDA-4407-ABF0-0FC7CB78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FF91-B530-4312-B76C-4D779812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FE17-8ADB-4795-86E8-84249EAC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5E43-C678-4F01-838D-4C3D8D86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4381-83A2-4A2F-9D1F-13D1F4D6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FA3-5BC8-48F9-A6CA-FFC79A61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E187-CC6C-4185-8F5E-15546872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2120-712F-42FF-BC1D-3C53FC70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E682-1604-4E41-BAAC-503D8AB1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18D5-2546-4077-B552-95AD16AE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1C50-6F65-4062-B642-33C59ED7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F1E-0E92-4C89-B621-08456D95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494-95F1-4F45-8D0A-BAD26D1B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5E6-C843-4EC3-A34E-22018448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E3D0-67DF-4CA2-90A3-0CF3B10D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F0A-2FEC-4C49-AEB6-BF61BE16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8FD-9B1D-47EE-B060-4DAC327B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FF0-4012-41FF-9062-47EE91E6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9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22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1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EB5A-D2E1-4384-B170-3B784A8EF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95280" y="1701720"/>
            <a:ext cx="118080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36C5-B1CF-495E-8916-F2A1C81EC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980720"/>
            <a:ext cx="6095880" cy="14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G 540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ccount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you with the basic background and tools that will allow you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acilitate and/or ass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evolution of contemporary accounting inform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quires a solid understanding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ective system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ed and develo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compon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n effecti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tity-wide internal control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icien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abase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 to impro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ing information f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the contemporary issues involved in provid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urance services for systems and database reli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Understanding of XB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ily, to become consumers of information related to new techn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oup Project Pro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’s &amp; Group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o/wha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group member will evaluate every other group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in term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 to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deal constructively with confl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articipation in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for assigned task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 of initiative or leadership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-100 poin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individual evaluation is a D or less (&lt; 67) your overall project score will be 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Invitation or Click “Join”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f you have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-mail for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address comes from e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(nice but no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your e-community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material to any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dit material already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Delete material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new page with ne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Pages, Podcasts, Video, Aud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DFD sections of 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cours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September 4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H Problem 4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derful Stuff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do this in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Updating Wikispace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Things to Keep You B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hinking about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your team members will be spending a lot of time together so choose wis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schedules of other prospective team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team c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urse documents of 5405 Web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September 18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concepts of 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ld Chinese prove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the concepts (Group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teven 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hornik@bus.ucf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Webpage: http://acg5405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 5:00-6:00; Tuesday 10:00 – 11:30  and by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(Yahoo): s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use Meebo Widget in Wiki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Information Systems 7th ed., by  Gelinas and D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ants Guide to XBRL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, by Clinton 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ly at http:www.skipwhi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Gliffy Account – Web Based Mode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1 (G&amp;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Exam (XBR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ssignment (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4.00 100-9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- 3.75 92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+ 3.25 89-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 3.00 85-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- 2.75 82-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+ 2.25 79-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 2.00 75-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+ 1.25 69-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 1.00 65-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 0.75 62-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graded Assignments (UGH’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ermitting we will do these in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Ask Questions,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/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Prepared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p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/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6:18:38Z</dcterms:created>
  <dc:creator>shornik</dc:creator>
  <dc:description/>
  <dc:language>en-US</dc:language>
  <cp:lastModifiedBy>Steven Hornik</cp:lastModifiedBy>
  <dcterms:modified xsi:type="dcterms:W3CDTF">2008-08-27T14:31:32Z</dcterms:modified>
  <cp:revision>55</cp:revision>
  <dc:subject/>
  <dc:title>ACG 5405 Intro</dc:title>
</cp:coreProperties>
</file>